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24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2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372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-360"/>
            <a:ext cx="303372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232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387320"/>
            <a:ext cx="56023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2120"/>
            <a:ext cx="303372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772120"/>
            <a:ext cx="303372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67B7E37-A880-46B5-91FC-FCB727528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9232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0200" y="4387320"/>
            <a:ext cx="56023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n Beat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uguay Round versus Doha 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9232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0200" y="4387320"/>
            <a:ext cx="56023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India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9232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0200" y="4387320"/>
            <a:ext cx="56023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bout of export protectio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9232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0200" y="4387320"/>
            <a:ext cx="56023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-shaped, V-shaped or L-shaped; Obama and the lost dec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ence of the early to mid-19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D96D-D8DA-4C94-B9BC-36A5E83D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69D-1E48-4385-8A35-233A4CDB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E1F-16BC-42B4-9502-71368814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8D8-1680-4249-9E8D-65893B93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7DF-09E5-4B8D-9381-CF96C172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BB4-B643-4538-9ED3-FF0B6D20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820-3B92-47BA-BB10-5A090A44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A5B-1DD3-476E-A592-1D15A364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74D-80C5-4734-B773-427BC734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530-15D0-4520-818B-310DEDB6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B63-1D0F-42F4-9D3C-4421F77E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A7F-9C3E-4E85-BA41-F733F570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8BF4-BFBB-4F7D-8C01-98DDA8D05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WTO and the Emerging Protectionist Threat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aditya Mattoo (World Ban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rvind Subramanian (Peterson Institute and Center for Global Develo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A February 19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But Limited Incremental Liberalization--Go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d Much Scope for Policy Reversals: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 Incremental Liberalization--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610480" cy="5410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6248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5911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d only limited binding of existing libe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isciplines on non-tariff prot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oha would not significantly tighten discipline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tid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duction subsi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overnment proc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ndervalued exchange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nvironmentally-motivated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nternational Policy Res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cenario I: Protectionism could remain low-grade and mutually accommodated: “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Although additional protectionism will prove inevitable during the crisis, all of us must display a sense of propor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”  (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Putin at Davo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 this scenario, option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ndstill plus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-20 communiqu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é honored in breach but naming-and-shaming could lead to some restr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tinued efforts to complete existing Doha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arvest fruits of past negotiating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ignal collective commitment to open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ternational Policy Responses (cont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ut real danger that prolonged downturn could provoke Scenario II: serious protectionis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f this scenario is likely, focus on current Doha agenda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lay action to pre-empt new protectio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sallocate scarce political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ddressing actual and potential pressures—through a re-positioned Doha—may be pref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e-positioned Do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should the agenda compr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o will be the key protagoni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are the feasible barga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should be the appropriate for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macro-environment for protectionism has changed with the global financial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ulting protectionist actions are not WTO-illegal and are not addressed by Do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rotectionism could be low-grade and mutually accommo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ever, risk of more serious protectionism remains which may entail a re-fashioned Doha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he Macro Environment—Pre-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apid economic growth and low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roadly open markets in the industrial world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stained unilateral and regional liberalization by developing countries in goods, services and even agriculture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roadly stable multilateral trading equilibrium. H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modesty of Doha’s ambition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difficulty in concluding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he Macro Environment To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worst global recession since the Great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 the US, recession combined with strong/strengthening dol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s is a potent combination for protectionist pressures: som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acroeconomic origins of the New Protectionist Pres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eventing leakages of fiscal stimulus packages: “Buy Americ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th consumption and investment in retreat, and magnitude and effects of fiscal action uncertain, external demand may become the most important source of escape from rec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ence undervalued exchange rates and unilateral responses to them could become a source of trade friction (Ireland and France have complained against Sterling depreciation; China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onger and deeper the recession, the graver the protectionist and mercantilist th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he Protectionist Pressures: Traditional Instrum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ariffs/licensing (mostly developing count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aid/subsidies (Autos, financial sector; mostly industrial but also developing count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-dumping (mostly developing count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overnment procurement (mostly industrial count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Protectionist Pressures: New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Undervalued exchange rates and responses to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vironmentally-motivated protectio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nancial nationalism (British loans for British fi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ource nationalism (Russian gas for Russia; Indian rice for Ind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egal Protect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emerging threats—traditional and new—are not WTO-illegal; in part reflecting respect for WTO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ore seriously, emerging threats are not addressed by the Doha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Doha 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limination of export subsi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mits on production subsi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nufac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duction of tariff pea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duction of bound tar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0T15:01:05Z</dcterms:created>
  <dc:creator>arvind.subramanian</dc:creator>
  <dc:description/>
  <dc:language>en-US</dc:language>
  <cp:lastModifiedBy> </cp:lastModifiedBy>
  <dcterms:modified xsi:type="dcterms:W3CDTF">2009-02-19T20:48:05Z</dcterms:modified>
  <cp:revision>19</cp:revision>
  <dc:subject/>
  <dc:title>Beyond Doha: New Agenda, Changing Constituencies</dc:title>
</cp:coreProperties>
</file>